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15889D16-C46E-49FE-B1B3-641CD5709C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6432ED1-5EFE-4F01-AFC5-A2E654F13E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4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2DE6711F-C5E2-4B7E-9DD4-5CE33F07F97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CBA42463-FF2B-4A6E-BCA5-8020770387B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1777BC-3213-4B66-848A-C29153C36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91E95-22B8-4CAC-A23B-181188BBAA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D17DF-53EB-4655-A998-A50090CEA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5B388-6615-41FC-9031-1D60B503F3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A356EE-0C11-4C91-ADCA-015977ACE3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46FEB3-A01E-4C97-9A1E-AAE1D5088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9F6B5-9991-48D9-BDA6-9B9265EC1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DA701E8-0C52-43DD-A864-3910E7F365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7FEC7-788C-4BF1-883D-8E805A9DE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49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6F2C1-D059-4480-99E9-28354B1B4C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66F55-8648-430C-A757-CB6425700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D53882-BAD7-41A8-9204-B1D7A4AAA3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5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D8144D-7B36-4A4A-83D7-F352E36E3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A333B5E-2BE6-4A6F-AF1D-EBF694CFF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0C5D04C4-84C4-4ABC-A05D-D5F3A1F327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58F53A60-C3A7-4EA7-8B4A-F7622C63A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184464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10822130-7AEE-4A4A-8F32-B32316E1C2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40F5801-32B2-4C2D-83A3-DC4124A1EE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3B5216F-0B8A-40ED-BE93-90B488D9C5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dfdef6"/>
              </a:solidFill>
              <a:latin typeface="Arial"/>
            </a:endParaRPr>
          </a:p>
        </p:txBody>
      </p:sp>
      <p:sp>
        <p:nvSpPr>
          <p:cNvPr id="23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502408B-88FE-43F0-A297-DF18A41DA663}"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CEBBF-0DE2-4A90-A253-D146CED1D00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A1F7B-380C-41B8-BAB4-EF6291D9FCB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
          <p:cNvSpPr txBox="1"/>
          <p:nvPr/>
        </p:nvSpPr>
        <p:spPr>
          <a:xfrm>
            <a:off x="826920" y="620640"/>
            <a:ext cx="730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Colegio Bilingüe de Palmare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5" name=""/>
          <p:cNvSpPr txBox="1"/>
          <p:nvPr/>
        </p:nvSpPr>
        <p:spPr>
          <a:xfrm>
            <a:off x="3564000" y="1700280"/>
            <a:ext cx="1838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I.S.G.</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6" name=""/>
          <p:cNvSpPr txBox="1"/>
          <p:nvPr/>
        </p:nvSpPr>
        <p:spPr>
          <a:xfrm>
            <a:off x="611280" y="2637000"/>
            <a:ext cx="2409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Grupo #3:</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7" name=""/>
          <p:cNvSpPr txBox="1"/>
          <p:nvPr/>
        </p:nvSpPr>
        <p:spPr>
          <a:xfrm>
            <a:off x="2700360" y="3573360"/>
            <a:ext cx="3429000" cy="194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Kevin Salazar</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Pamela Aria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Kevin Calv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18" name=""/>
          <p:cNvSpPr txBox="1"/>
          <p:nvPr/>
        </p:nvSpPr>
        <p:spPr>
          <a:xfrm>
            <a:off x="6659640" y="5950080"/>
            <a:ext cx="1447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IB 1-2</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1" name=""/>
          <p:cNvSpPr/>
          <p:nvPr/>
        </p:nvSpPr>
        <p:spPr>
          <a:xfrm>
            <a:off x="250920" y="335880"/>
            <a:ext cx="851364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1) Describa un programa de computación o aplicación con el cual usted ha tenido experiencia (como usuario o programador), en medicina, educación o lucha contra el crimen.  ¿Cuáles fueron sus ventajas?</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Internet, el cual me ha ayudado en la educación  para así poder hacer investigaciones y trabajos.</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12) Para cada una de las siguientes tareas, describa cómo fueron realizadas hace 20 o 25 años, antes de la Red Mundial.  Rápidamente mencione cuáles eran las principales dificultades o desventajas.</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btener una copia de un billete siendo debatido en el Congreso.</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Descifrar si existen tratamientos nuevos para cáncer de ovarios y que tan buenos son.</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Vender un anuncio publicando un concierto de los Beatles de 1960.</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 Tenían las personas que….</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 Se tenía que ir a un doctor especializado al cual se le tenía que pagar mucho, pero mucho dinero para que le diera una respuesta de la cual no estaba seguro.</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 Solamente haciendo propaganda en la televisión, lo cual salía muy costoso.</a:t>
            </a:r>
            <a:endParaRPr b="0" lang="en-US" sz="1800" spc="-1" strike="noStrike">
              <a:solidFill>
                <a:srgbClr val="ffffff"/>
              </a:solidFill>
              <a:latin typeface="Arial"/>
            </a:endParaRPr>
          </a:p>
        </p:txBody>
      </p:sp>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2" name=""/>
          <p:cNvSpPr/>
          <p:nvPr/>
        </p:nvSpPr>
        <p:spPr>
          <a:xfrm>
            <a:off x="324000" y="334440"/>
            <a:ext cx="828036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 Empiece a pensar en el capítulo 2.  Elija dos aplicaciones de computación descritas en la sección 1.3 cuando el uso de las computadoras invadió la privacidad con facilidad.  Explique có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 Piense más allá en el capítulo 4, elija dos aplicaciones de computadoras descritas en la sección 1.3 donde un error en el sistema de computación podría representar un serio daño a la vida de las personas.  Explique cómo.  Describa una aplicación que incremente la segur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pic>
        <p:nvPicPr>
          <p:cNvPr id="533" name="" descr=""/>
          <p:cNvPicPr/>
          <p:nvPr/>
        </p:nvPicPr>
        <p:blipFill>
          <a:blip r:embed="rId1"/>
          <a:stretch/>
        </p:blipFill>
        <p:spPr>
          <a:xfrm>
            <a:off x="3059280" y="1989000"/>
            <a:ext cx="2900160" cy="2829240"/>
          </a:xfrm>
          <a:prstGeom prst="rect">
            <a:avLst/>
          </a:prstGeom>
          <a:ln w="0">
            <a:noFill/>
          </a:ln>
        </p:spPr>
      </p:pic>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9" name=""/>
          <p:cNvSpPr/>
          <p:nvPr/>
        </p:nvSpPr>
        <p:spPr>
          <a:xfrm>
            <a:off x="611280" y="1557360"/>
            <a:ext cx="77756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Una de las ventajas de las computadoras personales, sistemas de información  y la red es la autorización personal.  Escriba tres aplicaciones mencionadas, en este capítulo, que ayudan a la gente ordinaria a hacer cosas de las cuales solíamos delegarlas a los exper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ducación y entrenamiento: </a:t>
            </a:r>
            <a:r>
              <a:rPr b="0" lang="en-US" sz="1800" spc="-1" strike="noStrike">
                <a:solidFill>
                  <a:srgbClr val="ffffff"/>
                </a:solidFill>
                <a:latin typeface="Arial"/>
              </a:rPr>
              <a:t>ayuda a enseñar a leer y a escribir a los niños por medio de juegos en las computadoras, y a los adultos por medio de softwares educativos, también las personas que viven en zonas rurales y no pueden viajar a los centros educativos, pueden aprender por medio de programas de televisión y por medio de correos electrónicos.  </a:t>
            </a:r>
            <a:r>
              <a:rPr b="1" lang="en-U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utomóviles y camiones: </a:t>
            </a:r>
            <a:r>
              <a:rPr b="0" lang="en-US" sz="1800" spc="-1" strike="noStrike">
                <a:solidFill>
                  <a:srgbClr val="ffffff"/>
                </a:solidFill>
                <a:latin typeface="Arial"/>
              </a:rPr>
              <a:t>se puede controlar la velocidad y la dirección de los automóviles por medio de chips y computadoras instalados dentro de el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ucha criminal</a:t>
            </a:r>
            <a:r>
              <a:rPr b="0" lang="en-US" sz="1800" spc="-1" strike="noStrike">
                <a:solidFill>
                  <a:srgbClr val="ffffff"/>
                </a:solidFill>
                <a:latin typeface="Arial"/>
              </a:rPr>
              <a:t>: los policías por medio de una red inalámbrica pueden ingresar a la base de datos por medio de las computadoras colocadas en las patrullas, la descripción de los criminales y poder así capturarlos.    </a:t>
            </a:r>
            <a:endParaRPr b="0" lang="en-US" sz="1800" spc="-1" strike="noStrike">
              <a:solidFill>
                <a:srgbClr val="ffffff"/>
              </a:solidFill>
              <a:latin typeface="Arial"/>
            </a:endParaRPr>
          </a:p>
        </p:txBody>
      </p:sp>
      <p:sp>
        <p:nvSpPr>
          <p:cNvPr id="520" name=""/>
          <p:cNvSpPr txBox="1"/>
          <p:nvPr/>
        </p:nvSpPr>
        <p:spPr>
          <a:xfrm>
            <a:off x="539640" y="549360"/>
            <a:ext cx="5400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jercicios de Repaso:</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
          <p:cNvSpPr txBox="1"/>
          <p:nvPr/>
        </p:nvSpPr>
        <p:spPr>
          <a:xfrm>
            <a:off x="468360" y="476280"/>
            <a:ext cx="5324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Ejercicios Generales:</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522" name=""/>
          <p:cNvSpPr/>
          <p:nvPr/>
        </p:nvSpPr>
        <p:spPr>
          <a:xfrm>
            <a:off x="250920" y="1413000"/>
            <a:ext cx="8713800" cy="475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scriba un ensayo corto (300 palabras) sobre el tema relacionado a las computadoras, el que a usted más le interese, y tenga implicaciones sociales y éticas.  Describa su historial; luego identifique las consecuencias, problemas, o preguntas que usted crea sean importantes.</a:t>
            </a:r>
            <a:endParaRPr b="0" lang="en-US" sz="1800" spc="-1" strike="noStrike">
              <a:solidFill>
                <a:srgbClr val="ffffff"/>
              </a:solidFill>
              <a:latin typeface="Arial"/>
            </a:endParaRPr>
          </a:p>
          <a:p>
            <a:pPr marL="343080" indent="-343080">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utomóviles, camiones o computadoras rodantes?</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sde su invención los automóviles y camiones han sido utilizados por muchas personas para transportarse y para trasladar materiales a distintos lugares, lo cual no siempre ha sido fácil por los riesgos a los que se exponen las personas, por ejemplo los accidentes automovilísticos. Muchas veces los conductores de camiones viajan grandes distancias sin detenerse a  descansar por lo tanto en muchas ocasiones estos se quedan dormidos, y pueden provocar grandes desastres un ejemplo de esto es cuando suceden los choques en cadena porque talves los camiones estaban delante de otros vehículos.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3" name=""/>
          <p:cNvSpPr/>
          <p:nvPr/>
        </p:nvSpPr>
        <p:spPr>
          <a:xfrm>
            <a:off x="468360" y="476280"/>
            <a:ext cx="8424720" cy="599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Los seres humanos estamos buscando la forma de evitar algunos de estos problemas, mediante inventos como el sistema de anti-cierre de frenos que es más seguro a la hora de detener un auto. Otro invento es que a algunos camiones se les introdujo un sistema de sensores para detectar cuando va a ocurrir un choque y así la maquina empieza a detenerse.  De esta manera vemos como las computadoras están influyendo en el campo automovilístico y además disminuyen la cantidad de accidente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 está investigando la posibilidad a un futuro muy cercano, poder diseñar un sistema de advertencia que reduzca la gran cantidad de incidentes ocurridos por conductores que se duermen, apoderándose del volante mientras que el conductor reacciona. Algunas marcas reconocidas han implementado un método de reducción de gasto de energía y contaminación, por medio de computadoras implementadas dentro de ellos, que consiste en mantener un balance entre la batería de poder y la gasolina. También han desarrollado un dispositivo de radar infrarrojo que ha permitido mejorar la visión nocturna de los conduct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parte negativa de estos inventos es que no todas las personas tienen la oportunidad de adquirir sistemas tan avanzados y costosos como este, por eso aunque la tecnología este tan vanguardista no podemos decir que nos beneficia a todos.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4" name=""/>
          <p:cNvSpPr/>
          <p:nvPr/>
        </p:nvSpPr>
        <p:spPr>
          <a:xfrm>
            <a:off x="430200" y="1052640"/>
            <a:ext cx="87138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2) Mencione dos máquinas o dispositivos que existieron antes que las computadoras; de las cuales actualmente se le han insertado microprocesadores.  (Dé ejemplos que no se hayan mencionado en el tex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s </a:t>
            </a:r>
            <a:r>
              <a:rPr b="0" lang="es-ES" sz="1800" spc="-1" strike="noStrike">
                <a:solidFill>
                  <a:srgbClr val="ffffff"/>
                </a:solidFill>
                <a:latin typeface="Arial"/>
              </a:rPr>
              <a:t>calculadoras</a:t>
            </a:r>
            <a:r>
              <a:rPr b="0" lang="en-US" sz="1800" spc="-1" strike="noStrike">
                <a:solidFill>
                  <a:srgbClr val="ffffff"/>
                </a:solidFill>
                <a:latin typeface="Arial"/>
              </a:rPr>
              <a:t> y </a:t>
            </a:r>
            <a:r>
              <a:rPr b="0" lang="es-ES" sz="1800" spc="-1" strike="noStrike">
                <a:solidFill>
                  <a:srgbClr val="ffffff"/>
                </a:solidFill>
                <a:latin typeface="Arial"/>
              </a:rPr>
              <a:t>los</a:t>
            </a:r>
            <a:r>
              <a:rPr b="0" lang="en-US" sz="1800" spc="-1" strike="noStrike">
                <a:solidFill>
                  <a:srgbClr val="ffffff"/>
                </a:solidFill>
                <a:latin typeface="Arial"/>
              </a:rPr>
              <a:t> </a:t>
            </a:r>
            <a:r>
              <a:rPr b="0" lang="es-ES" sz="1800" spc="-1" strike="noStrike">
                <a:solidFill>
                  <a:srgbClr val="ffffff"/>
                </a:solidFill>
                <a:latin typeface="Arial"/>
              </a:rPr>
              <a:t>televis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3) a) Los hornos de microondas fueron primeramente introducidos sin microprocesadores.  Son las microondas las que cocinan la comida, y no la computadora.  ¿Cuáles beneficios provienen de la computadora del horno de microond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b) Escoja otro dispositivo o electrodoméstico que existió antes de los microprocesadores, que en la actualidad posee un microprocesador dentr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uál es el beneficio obtenido de la computado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5" name=""/>
          <p:cNvSpPr/>
          <p:nvPr/>
        </p:nvSpPr>
        <p:spPr>
          <a:xfrm>
            <a:off x="468360" y="260280"/>
            <a:ext cx="8136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 puede digitar la cantidad de tiempo que ocupa el alimento para cocinarse o calentars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algunos microondas con solo presionar una tecla se puede calentar un plato de comida, ya que la computadora del microondas está programada con diferentes tiempos de coci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mbién el sonido que anuncia que la comida se terminó de cocinar o de calent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Los teléfon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identificador de llamadas</a:t>
            </a:r>
            <a:endParaRPr b="0" lang="en-US" sz="1800" spc="-1" strike="noStrike">
              <a:solidFill>
                <a:srgbClr val="ffffff"/>
              </a:solidFill>
              <a:latin typeface="Arial"/>
            </a:endParaRPr>
          </a:p>
        </p:txBody>
      </p:sp>
      <p:sp>
        <p:nvSpPr>
          <p:cNvPr id="526" name=""/>
          <p:cNvSpPr/>
          <p:nvPr/>
        </p:nvSpPr>
        <p:spPr>
          <a:xfrm>
            <a:off x="395280" y="3580560"/>
            <a:ext cx="81374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Describa un producto, de la tecnología en computación, que ha estado en uso por aproximadamente 100 años o más; pero que recientemente llegó a ser obsoleto o llegará a serlo en un futuro próximo.  Explique por qué usted cree que es o será obsole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fax se han usado desde hace muchos años y aunque ya casi no se utilizan, hay quienes lo siguen usando, pero esta máquina dentro de no mucho tiempo va a llegar a su fin, ya que poco a poco está siendo reemplazada por las computadoras y otros artefactos que cumplen las mismas y más funciones de las que cumple el fax.</a:t>
            </a:r>
            <a:endParaRPr b="0" lang="en-US" sz="1800" spc="-1" strike="noStrike">
              <a:solidFill>
                <a:srgbClr val="ffffff"/>
              </a:solidFill>
              <a:latin typeface="Arial"/>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7" name=""/>
          <p:cNvSpPr/>
          <p:nvPr/>
        </p:nvSpPr>
        <p:spPr>
          <a:xfrm>
            <a:off x="120600" y="478080"/>
            <a:ext cx="90234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 Mencione dos trabajos que han llegado a ser obsoletos por las computadoras.  Escriba dos trabajos que no existirían sin las computado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ole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 correo post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 que no existirían sin computado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eñadores de páginas we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paración de computado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Haga un análisis de compra de libros en la red como el análisis hecho para los cajeros automáticos al inicio de la sección 1.2.1.  Debe tener una rápida descripción de algunos impactos en (o del) empleo, servicio al cliente, crimen, privacidad y erro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8" name=""/>
          <p:cNvSpPr/>
          <p:nvPr/>
        </p:nvSpPr>
        <p:spPr>
          <a:xfrm>
            <a:off x="179280" y="189720"/>
            <a:ext cx="874728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 Considere el problema de realizar un depósito bancario que no se acredite a su cuenta.  Compare la posibilidad de este suceso con varias maneras de hacer depósitos: ir a un cajero humano en el banco, enviar el depósito por correo electrónico, y usar un cajero automático.  ¿Qué cosa sucedería mal? ¿Qué tan difícil sería en cada caso convencer al banco de que usted realmente realizó el depósi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sp>
        <p:nvSpPr>
          <p:cNvPr id="529" name=""/>
          <p:cNvSpPr/>
          <p:nvPr/>
        </p:nvSpPr>
        <p:spPr>
          <a:xfrm>
            <a:off x="250920" y="2493360"/>
            <a:ext cx="856908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 En los siguientes casos verídicos, ya sea que las personas estén interpretando el derecho siendo reclamado como derecho negativo (libertad) o como derecho positivo (derecho merecedor).  Explique.  En cada caso, ¿cuáles clases de derechos deberían ser y por qué?</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 hombre demanda su compañía de seguro médico porque no desea pagar por obtener Viagra, medicina para el tratamiento de impotencia masculina.  Él argumenta que la negativa del asegurador deniega su derecho a una feliz vida sexual.</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s legisladores que perdieron los votos de reelección demandan a una organización que publicaron anuncios criticando sus archivos de votos.  Los anteriores legisladores argumentan que la organización interfirió con sus derechos de privacidad.</a:t>
            </a: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485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30" name=""/>
          <p:cNvSpPr/>
          <p:nvPr/>
        </p:nvSpPr>
        <p:spPr>
          <a:xfrm>
            <a:off x="189000" y="477360"/>
            <a:ext cx="895500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 Piense sobre algunos dispositivos computarizados o programas que no existen aún, pero que usted estaría orgulloso de ayudar a crearlos.  Descríbal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 gustaría crear un dispositivo computarizado que ayude a la memoria de las personas con el síndrome de Alzheimer, que les ayude a recordar las cosas más importantes que necesit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 Mencione tres aplicaciones de la tecnología en computación, dichas en este capítulo, que reduzcan la necesidad de transporte.  ¿Cuáles son las ventajas de tenerlas? A una de las aplicaciones escogidas descríbale una debilidad potencial o problema que se podría desarrolla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7T12:17:49Z</dcterms:created>
  <dc:creator>Kevin &amp; Jorge</dc:creator>
  <dc:description/>
  <dc:language>en-US</dc:language>
  <cp:lastModifiedBy>Kevin &amp; Jorge</cp:lastModifiedBy>
  <dcterms:modified xsi:type="dcterms:W3CDTF">2009-03-07T12:39:52Z</dcterms:modified>
  <cp:revision>2</cp:revision>
  <dc:subject/>
  <dc:title>Diapositiva 1</dc:title>
</cp:coreProperties>
</file>